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59CC-3085-4920-950E-25925E0DB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6AFE-3EE7-44AF-84AC-CADB9688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FAA221-AAF1-444B-BB5D-CB15D906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49EAC1-F0DE-47E8-88F3-13569B93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EB2F35-47EE-45A3-BEB5-40F15D30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08AD74-E66C-49F2-A350-E1D07AAD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DDF2CC-FC4A-4697-9012-AB48FB67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1954E0-AB95-4971-B79E-E9E90242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D21398-EFA5-426C-B10E-B8EF128D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2BFA29-EC71-4C54-8349-8EE3C9B8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47292F-B929-45C9-A8E0-12BEBCDC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FA8EB-4C8A-44B5-85C3-4FC75AFD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F5E1-E398-40F1-ADDC-7A850526A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2E36B-100A-4D91-8FEA-0D9BD8AC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B6B2D-97CB-4DDB-85B3-FEB9B056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299F1E-DCCE-4041-96F7-921321A4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DCC494-A06A-4518-8E46-7FDC3ACF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FF71F-6141-4DC6-80DE-571636BC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4F11E-E462-4D5C-A06C-5B9E1B07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095AC-C6D4-4D98-AB77-714AD24B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AF4CC-A339-46FF-9CB3-B9FB023F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AB0DA-B293-4EB9-9CBC-AF83316D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9F5754-C247-4843-8A1A-4C5B03085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5FFD-F3A8-4C83-B744-583FD3033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6A818-2D69-429B-B30B-0D4BCBDA7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8C247-12C7-41D8-8A62-2820AAA1D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EDE31-A41B-4B0C-88C4-B63C60DD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40981-2E0B-4E6B-B780-6B7895A7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48CB0-609C-4182-B5FD-08E0427A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5CBEA-46AA-492B-8E12-D06DF6DA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DD386-DFA9-4682-B093-123A9B7A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600EF-B157-4FE0-AE53-5C607A74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F5055-0C44-4B18-B321-1A741504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A02E7-4214-44D5-B9D4-95B1F25F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64E1-A345-42BC-8558-8532F515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797ED-4D21-415F-A5F9-199E7079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00476-78C8-4DA1-A1BD-DB4F0135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A3241-2045-462A-81F3-549DBF17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5C009-6FEE-4923-AA12-7E83B3BB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143147-6FFE-46E9-90FE-60EC2416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9A984-5CA4-4FED-A28D-AE454814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6C4EA8-3802-458A-91EC-BA99183C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8CEA0-F02D-474A-9421-81A54722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EC45F6-B503-40DC-A289-E0F35F8E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F9591E-477F-4E2C-AB1E-D1224C7E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8B81-6368-404A-A567-F8EEAB85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FE292A-716C-4DCC-A1D1-820DC9DF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B3347-6DB6-4EE8-B4FB-0D2C05FB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8A3E15-1625-4BF2-BB43-28A2A097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F4C1DE-6308-466A-A828-BB85FC34F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4465A-32BE-4C04-9A79-6AE3283E0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DE2EDD-D284-4F9B-996D-0A93285E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04B0AD-5E3A-455C-87BF-D2FAB315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C0C57E-2BFC-400F-98AF-FB3ECBDC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218FED-F20C-4FFF-A468-6DA1F0D7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C86B7C-A164-45C2-9E9D-B356DBA0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A44C-04CC-49EF-851B-F920FF3C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DEA6DA-C690-4020-9C39-F9DEAEFF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3E6069-90C3-4AAA-A111-DC761ED3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53865E-9BC3-439C-BB16-4E480A9E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0794C5-901D-4FD8-88C7-69CE91BB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D5D6A7-BB1D-440D-BAF7-91059BBB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AFA654-7578-455D-A710-E1FCA87B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31AE45-2365-4B80-98F0-3B47E890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456115-6ECA-4A4C-93E5-F89127B7F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A6951F-732A-4902-B3D1-6CA07BAE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085D6C-1D84-47E1-98E4-AB8D9D79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055A-3207-485D-8B41-8DDC6CDA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7A1F98-ACD8-4719-BC09-EFF2654B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8965BF-2F6D-4BB3-805B-DBFDFFB2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4C957B-462C-49DC-ADC6-6A5D7715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B5BCC5-2444-4C36-9A18-F669D2AB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A7174E-0116-4A3E-BB02-9B7F75CA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F82E10-55E7-4966-83FF-8E59C62D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9CC2D4-CDD9-49F5-BDFF-0FA88447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2BC7FA-5302-4D56-ACA9-71AE93A4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06C0A2-7564-46FC-AAB8-A58A03902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30C3-8259-4775-9B78-49CA04A1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3526-A1D1-476D-A31F-8BC80473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8ECE-74B7-43BF-AA55-BD6D717B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B6C1-1E76-42F0-A934-FFF58D20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7D07-3C45-43C8-BA39-18C92C9A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E7F4-26C8-430D-BD4D-2AD8DABB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E77F-9798-4FA8-9939-234571C1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D8FE-9673-40D2-AF22-56284543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AE6E-726A-4A7A-8E5D-93F1A2DE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6FA5A-072C-4D42-9EB7-0AC49A97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83963-4A35-49B9-A4E2-F358F292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8769D-1AD7-41D7-8F08-5F66C797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4A279-3EC8-43FF-9446-26148427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81CD8-6B2D-4868-A6C7-9F898A66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DD8F-C67F-402B-BC04-2398AE85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2A908-9AF5-4C18-8688-89EBDB35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95220-8ABE-447B-A6D2-A6DBE2AE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4EA94-4B93-4E33-821E-D875961B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13BA1-4C9E-4261-AA89-61A80084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845EA-327B-46A2-A988-5582787D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2BAA9-6D40-40CB-9A6F-2E4F10FA2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2255F-3D76-439E-821F-E50928DED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1B701-8120-45EB-8683-D7437172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A7539-C548-4E84-9D2B-3B9E96AF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9893B-453A-49C2-B382-E31DA0B6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95D3-20B9-4EA6-A4E3-E97B52B9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79F06-4D69-45CA-92C4-2F24E386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4A3AB-6E38-4E1E-B409-689774E6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7F99C-B2FE-444C-99D9-4594C135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E15FE-26CA-43E2-AC6A-4BBD5046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56E6A-0CDB-4DE2-B9C5-C450794B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78033-3A2B-463B-B10C-49CCB774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53F6A-32A2-4CF0-A0E6-66A3413F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29B03-5014-4C33-9D3D-A69F5678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9EF51-C6A5-4304-9AA1-49D0ED80D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DBDAE-0089-4956-91B5-4D49E299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BF2A-6A8F-4C9D-9019-C3110ED8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49B74-0015-4926-B0CA-78B38655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C82E5-E117-4827-B9DB-5F4719F3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52668-CAA6-410D-A4AA-FC3F7C60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B3FB6-563D-4CA9-A25E-697E6C36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7AD88-C0DF-47DA-BD3F-A6B3FC4F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18F01-EB88-4752-BCEC-BE29D949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DF5B0-A157-44CF-8463-2E49AFC7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995AB-A54C-4406-8F7A-82B85605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A5CF3-3D73-4E1E-883B-68D76B21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87384-5ADB-49E6-A317-F1163BE3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6BF2-4DC6-40C8-851C-52D9F4E4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DD20F-7E00-429A-842A-0D4F51810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F7185-8F39-4275-ABE6-283DF3A87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8DD85-BFA8-499F-B519-88634352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7C889-B56D-4B44-A22F-3CD1F5E4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6D022-1E4C-4AE8-90FC-4BA71EF4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2211E-1370-42E8-9000-70B67310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95686-2E2D-4C69-A649-2527F518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CFC05-D395-4C3B-BBB2-07DD1447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8C23A-935F-4407-9A1C-C3CBF34B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533F1-BDF0-489D-B949-ACAB297D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8B41-39CD-4B02-93C1-034208D8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63CE9-DEF0-45E0-AB8D-2D6DA084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DA3BE-BBF4-4126-9673-80B159CE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3422C-4150-4B9A-9274-E24F96243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FA40C-7997-4A67-BF4D-7AFBF9123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E1365-8A05-4ADC-A4BE-8010E73C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0CA24-7DD9-4C81-994C-848E5082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E5D09-F402-4995-A4D0-8DB0C456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DA5E6-DB82-4F59-B793-2FF51AB4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6E2EB-0733-4E7E-A35A-00DE81E5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11AE8-3456-4A53-A8E4-1A4983A2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40E9-E5A7-42D5-941C-7574DB1E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4CDE2-80D9-40C6-B439-A908EA87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95BB4-EFA2-4279-A0B9-2BD27835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8EE29-9C69-44A1-B95C-CE582553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55F7B-A543-4997-944A-596107126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BA8C1-C38D-4437-84E9-C3B8C7286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264A2-825F-427A-BD2F-33CC7CFFC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71BF9-94F6-4531-89F8-C430C195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5E984-DBC0-4B97-9ED1-C2631FD4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342FE-7600-4352-8C2B-5B3EBD6C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1D81A-6DCE-4F5C-B1C6-7A2A4F61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A270-05D2-4891-8175-76514F26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9CA08-D9AB-4CC9-85FB-D7549A7F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9EDD1-B214-47AA-AF5A-6F32A2F4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4C99B-DB0E-42D7-A233-13357F8F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00441-C862-4AB0-9627-940B4912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07588-4B94-4EF9-AC0F-67949C08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049B4-F123-4BDE-9489-0C8D97FAC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BEA49-AA38-413A-ABE8-6B7CF52F1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51E765-4FA4-40DB-A2C3-9C6FBCF60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0967A4-6698-464E-899D-0ECE5643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A2C5BF-6E71-4E7B-B22F-C3A091D6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B5C2-FB3F-44C7-BE27-B525C3ADD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0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176E-B404-4F83-81CA-F614EF67A93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57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57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7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57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8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8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8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58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59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59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60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60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60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61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61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61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62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62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3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3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64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64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5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65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65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65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66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66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66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66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67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67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68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8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2E48-A22D-4253-915C-1A1251F55DF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74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74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75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75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5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75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75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76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76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76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76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77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77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77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78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78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78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79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79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79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79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80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80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80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81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81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81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2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82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82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2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83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3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83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84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84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84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84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85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5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85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85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86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6D45-E5C1-457F-BA31-4089CBC3D8E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3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337F-6B48-43CC-8D1E-3E579D78B5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dt" idx="4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CC77-88CB-4382-8DEB-D9DD9F82D3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140F-B2DC-4FD7-A5DC-05384955B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98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D912-004B-44FE-A433-5A15B8A8FA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43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48FB-CAC5-43C7-B2CE-644CA59757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87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C2B0-D015-48A0-AA45-AD9EDD8EED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36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5122-B7BC-4FD0-AA7B-5312DED564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84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21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EA85-9F04-40D8-9C3C-ADA1736863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6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0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FBD9-C4D9-4D08-8BF4-DC4523E222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387F-FC76-4900-9231-9E79173D89B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hyperlink" Target="http://www.google.com/imgres?imgurl=http://www.lykhin.com/mobilephoto/wp-content/uploads/2007/11/sbsh0225.jpg&amp;imgrefurl=http://www.lykhin.com/mobilephoto/belgorod-russia-central-market/&amp;usg=__jwqR8gqz3ojPQrnDU-TKswrkg1U=&amp;h=338&amp;w=450&amp;sz=154&amp;hl=en&amp;start=2&amp;zoom=1&amp;itbs=1&amp;tbnid=Ssk1JMEe3gdh9M:&amp;tbnh=95&amp;tbnw=127&amp;prev=/images%3Fq%3Drussia%2Bmarket%26hl%3Den%26gbv%3D2%26tbs%3Disch:1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nap ITC"/>
              </a:rPr>
              <a:t>Russia’s Econom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nap ITC"/>
              </a:rPr>
              <a:t>By: Mario Ragusa, Alex Huynh, and Fiona Schmid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Ravie"/>
              </a:rPr>
              <a:t>Problems/Solutions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vie"/>
              </a:rPr>
              <a:t>Problem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Factories focused on heavy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Had older indus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Ravie"/>
              </a:rPr>
              <a:t>Solu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factories shifted to light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High-technology industries have appea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596960" y="301932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Tempus Sans ITC"/>
              </a:rPr>
              <a:t>Important parts of Russia's econom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Gold and fish are both found in South Eastern Russ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Coal is a major resource and is found in the cold parts of Russ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Russia is one of the leading oil produc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8" name="" descr=""/>
          <p:cNvPicPr/>
          <p:nvPr/>
        </p:nvPicPr>
        <p:blipFill>
          <a:blip r:embed="rId1"/>
          <a:stretch/>
        </p:blipFill>
        <p:spPr>
          <a:xfrm>
            <a:off x="491796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009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1010" name="" descr=""/>
          <p:cNvPicPr/>
          <p:nvPr/>
        </p:nvPicPr>
        <p:blipFill>
          <a:blip r:embed="rId3"/>
          <a:stretch/>
        </p:blipFill>
        <p:spPr>
          <a:xfrm>
            <a:off x="4648320" y="3962520"/>
            <a:ext cx="1904760" cy="2149200"/>
          </a:xfrm>
          <a:prstGeom prst="rect">
            <a:avLst/>
          </a:prstGeom>
          <a:ln w="0">
            <a:noFill/>
          </a:ln>
        </p:spPr>
      </p:pic>
      <p:pic>
        <p:nvPicPr>
          <p:cNvPr id="1011" name="" descr=""/>
          <p:cNvPicPr/>
          <p:nvPr/>
        </p:nvPicPr>
        <p:blipFill>
          <a:blip r:embed="rId4"/>
          <a:stretch/>
        </p:blipFill>
        <p:spPr>
          <a:xfrm>
            <a:off x="6553080" y="182880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1012" name="" descr=""/>
          <p:cNvPicPr/>
          <p:nvPr/>
        </p:nvPicPr>
        <p:blipFill>
          <a:blip r:embed="rId5"/>
          <a:stretch/>
        </p:blipFill>
        <p:spPr>
          <a:xfrm>
            <a:off x="6553080" y="3962520"/>
            <a:ext cx="22860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98" fill="hold"/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tencil"/>
              </a:rPr>
              <a:t>Russia’s Grow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9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tencil"/>
              </a:rPr>
              <a:t>Russia has increased since the economic crisis of the fall of the Soviet Un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tencil"/>
              </a:rPr>
              <a:t>They changed from Yeltsin years to Putin years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4687920" y="1828800"/>
            <a:ext cx="399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6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038480" cy="4191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Important Fac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stellar"/>
              </a:rPr>
              <a:t>Getting to the materials In Russia is difficult because Serbia is mostly undeveloped because of its climat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stellar"/>
              </a:rPr>
              <a:t>Russia exports petroleum, natural gas, wood and metal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ussia’s type of Econom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ginally Russia had a command and globally isolated economy. There was many people in pover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day Russia is more based on free market and globally integrat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1" name="" descr=""/>
          <p:cNvPicPr/>
          <p:nvPr/>
        </p:nvPicPr>
        <p:blipFill>
          <a:blip r:embed="rId2"/>
          <a:stretch/>
        </p:blipFill>
        <p:spPr>
          <a:xfrm>
            <a:off x="301680" y="3963600"/>
            <a:ext cx="8540640" cy="2135160"/>
          </a:xfrm>
          <a:prstGeom prst="rect">
            <a:avLst/>
          </a:prstGeom>
          <a:ln w="0">
            <a:noFill/>
          </a:ln>
        </p:spPr>
      </p:pic>
      <p:pic>
        <p:nvPicPr>
          <p:cNvPr id="1022" name="" descr=""/>
          <p:cNvPicPr/>
          <p:nvPr/>
        </p:nvPicPr>
        <p:blipFill>
          <a:blip r:embed="rId3"/>
          <a:stretch/>
        </p:blipFill>
        <p:spPr>
          <a:xfrm>
            <a:off x="304920" y="3962520"/>
            <a:ext cx="4343400" cy="2133360"/>
          </a:xfrm>
          <a:prstGeom prst="rect">
            <a:avLst/>
          </a:prstGeom>
          <a:ln w="0">
            <a:noFill/>
          </a:ln>
        </p:spPr>
      </p:pic>
      <p:pic>
        <p:nvPicPr>
          <p:cNvPr id="102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3962520"/>
            <a:ext cx="4181400" cy="21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REDI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igned by Alex, Mario and Fi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d by Alex, Mario and Fi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earch by Alex, Mario and Fi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5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5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5000" fill="hold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5000" fill="hold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5000" fill="hold"/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5000" fill="hold"/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5000" fill="hold"/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5000" fill="hold"/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09:53:25Z</dcterms:created>
  <dc:creator> </dc:creator>
  <dc:description/>
  <dc:language>en-US</dc:language>
  <cp:lastModifiedBy> </cp:lastModifiedBy>
  <dcterms:modified xsi:type="dcterms:W3CDTF">2010-12-16T18:43:31Z</dcterms:modified>
  <cp:revision>7</cp:revision>
  <dc:subject/>
  <dc:title>Russia’s Economy</dc:title>
</cp:coreProperties>
</file>